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F862-2F39-4B21-BB9F-0705209F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3CD3-C631-45CD-B203-66647AA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374-92D8-4134-A051-E99A1FB56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22A-AE03-436E-A303-D8B96149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084-9182-4174-B78A-50F41B1D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20C-C1FD-4360-8CDC-309CEE51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2CB-0A03-45C2-AF7F-417B907F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67F-AA27-483D-BEE7-3BE4421C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43BB-941D-46C2-A911-C8055575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87E-C005-46CC-9B79-CCC8F633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D98-FA01-4918-93B9-E52F85E3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FA6-DE9C-4410-A11D-773097B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F148-536C-46E8-9CE1-8F317C8B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Tools.com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ing Search Indexing Robot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werPoint File</a:t>
            </a:r>
            <a:br>
              <a:rPr sz="2000"/>
            </a:br>
            <a:br>
              <a:rPr sz="20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ge is testing whether search indexing robots follow URL links to PowerPoint .ppt files, and whether the indexer recognizes text in these fil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earch for the unique keyword below and find this page, the search engine robot follows these links and indexes this text. 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earch Unique Keyword: RTest, RTestGood, RTestGood16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lso searchable keywords in the document Properties (test 146). Search for that unique keyword to see if properties  are indexed as wel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ore information, see &lt;http://www.searchtools.com/test/&gt;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04:08:32Z</dcterms:created>
  <dc:creator>Avi Rappoport</dc:creator>
  <dc:description/>
  <cp:keywords>RTest RTestGood RTestGood163</cp:keywords>
  <dc:language>en-US</dc:language>
  <cp:lastModifiedBy>Avi Rappoport</cp:lastModifiedBy>
  <dcterms:modified xsi:type="dcterms:W3CDTF">1999-10-16T04:12:41Z</dcterms:modified>
  <cp:revision>3</cp:revision>
  <dc:subject>Robot &amp; Indexer Testing</dc:subject>
  <dc:title>Indexing PowerPoint Documents</dc:title>
</cp:coreProperties>
</file>