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477FA-0C0E-45E5-AFD0-85DB995C4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6AF4B-8F27-4813-A70D-B4A33CAB2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DCCB6-DD10-45FA-9157-D99642EFB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D5BFD-E272-4B20-A6F1-6FF62EB3E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A8BDD-0BCF-4BD9-B51B-5BB9E1C0D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2AAC8-1E3D-4A5F-9D0F-75CC8D993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80FB7-6A37-402E-82F1-EE68A1662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90048-E103-485B-8C5D-E4539A197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50C77-4160-4E2F-8BA8-6C7DE958A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BA1B8-62B0-4B98-850F-143ECAE00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2FAF0-984F-4A2A-A0FA-A3B3A7ED3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9B432-A21B-4C3C-823D-C560ADF9D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4C8CE-86B9-49A9-B847-0D2B85F758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792468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archTools.com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sting Search Indexing Robots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werPoint File</a:t>
            </a:r>
            <a:br>
              <a:rPr sz="2000"/>
            </a:br>
            <a:br>
              <a:rPr sz="20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age is testing whether search indexing robots follow URL links to PowerPoint .ppt files, and whether the indexer recognizes text in these files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you search for the unique keyword below and find this page, the search engine robot follows these links and indexes this text.  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earch Unique Keyword: RTest, RTestGood, RTestGood162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also searchable keywords in the document Properties (test 146). Search for that unique keyword to see if properties  are indexed as well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more information, see &lt;http://www.searchtools.com/test/&gt;.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04:08:32Z</dcterms:created>
  <dc:creator>Avi Rappoport</dc:creator>
  <dc:description/>
  <cp:keywords>RTest RTestGood RTestGood163</cp:keywords>
  <dc:language>en-US</dc:language>
  <cp:lastModifiedBy>Avi Rappoport</cp:lastModifiedBy>
  <dcterms:modified xsi:type="dcterms:W3CDTF">1999-10-16T04:12:41Z</dcterms:modified>
  <cp:revision>3</cp:revision>
  <dc:subject>Robot &amp; Indexer Testing</dc:subject>
  <dc:title>Indexing PowerPoint Documents</dc:title>
</cp:coreProperties>
</file>