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277-A5EA-4D6D-8293-A2C18DEB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223-3BE4-4D2C-8033-DACDCDF1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05B-FB3B-42D2-A5BD-BF06B745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24F-9BCE-46B5-AEAB-95763D81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878-36A7-4163-8ED4-D59C744A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46A-3211-4444-9682-5676EE6D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939-D7DA-42B2-8275-94FB833C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867-022A-45FF-9983-66DD44B8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27F-ECD5-4FBF-9FD7-2ADD7153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07C-397D-43AC-AE4E-5F0A451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C35-E1EA-4348-B670-1A7EF9A5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A5A-51BE-4F43-A637-D8DBF3B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4A90-D38B-47C8-8F91-A93DB707D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Tools.com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Search Indexing Robo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 File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ge is testing whether search indexing robots follow URL links to PowerPoint .ppt files, and whether the indexer recognizes text in these fil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earch for the unique keyword below and find this page, the search engine robot follows these links and indexes this text. 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rch Unique Keyword: RTest, RTestGood, RTestGood16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lso searchable keywords in the document Properties (test 146). Search for that unique keyword to see if properties  are indexed as wel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information, see &lt;http://www.searchtools.com/test/&gt;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4:08:32Z</dcterms:created>
  <dc:creator>Avi Rappoport</dc:creator>
  <dc:description/>
  <cp:keywords>RTest RTestGood RTestGood163</cp:keywords>
  <dc:language>en-US</dc:language>
  <cp:lastModifiedBy>Avi Rappoport</cp:lastModifiedBy>
  <dcterms:modified xsi:type="dcterms:W3CDTF">1999-10-16T04:12:41Z</dcterms:modified>
  <cp:revision>3</cp:revision>
  <dc:subject>Robot &amp; Indexer Testing</dc:subject>
  <dc:title>Indexing PowerPoint Documents</dc:title>
</cp:coreProperties>
</file>