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043-5677-4566-A253-C79C5798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359-A779-4406-B1EC-087ADE2E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0BD-6D18-4468-9361-4649030A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9FB-D6E1-48B4-9E10-4A2FDA01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86E-26A6-4CD1-BEEE-BBE0CE29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B15-CCD3-40BF-8327-6493F657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947-30C8-4057-845A-AC9F46FC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C60-1A9C-4A24-9172-6734B74F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284-C028-4A74-80A2-BBED9E7B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9B0-5072-4DB0-B0DB-87D67E50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27F-55B7-42BE-A355-93190D59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8A5-77BD-4A34-8D78-C1CC8A63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9FB5-E5DE-4848-81F4-09F63052A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4:13Z</dcterms:modified>
  <cp:revision>5</cp:revision>
  <dc:subject/>
  <dc:title>Présentation PowerPoint</dc:title>
</cp:coreProperties>
</file>