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2A4F-9928-4D02-A657-B08D4D47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C941-B362-40E3-9608-A566ED76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30C-D2DB-410E-9F84-E88F6821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6029-93B5-4893-9BA3-19B1A14E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865-33EE-4B83-86B6-7F77AE6B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313-962C-4271-9A35-824D62FA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E30C-576E-4BF3-A324-6DCEBD0A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757-EC6D-4FC4-8A3A-1DDE8E0E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81BA-AE13-4233-84CF-54B40BB0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54A8-DFE9-4A10-9508-CB8924AC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013B-5381-4995-AEB4-C204E6FB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505-21E7-455E-A03C-8E7AB16E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B931-B13D-4B61-AE78-C9C3FDC11A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59280" y="189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59280" y="189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rvlet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59280" y="1197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1197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JB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2205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205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DE (Eclipse, IntelliJ,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3213000"/>
            <a:ext cx="237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59280" y="3213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MS 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4221000"/>
            <a:ext cx="237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4221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AI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33336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1125360"/>
            <a:ext cx="1584360" cy="72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191772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270972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etty/Ope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350208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429264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27664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13372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91628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st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234936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234936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796000" y="549360"/>
            <a:ext cx="503280" cy="504720"/>
            <a:chOff x="5796000" y="549360"/>
            <a:chExt cx="503280" cy="504720"/>
          </a:xfrm>
        </p:grpSpPr>
        <p:sp>
          <p:nvSpPr>
            <p:cNvPr id="63" name=""/>
            <p:cNvSpPr/>
            <p:nvPr/>
          </p:nvSpPr>
          <p:spPr>
            <a:xfrm>
              <a:off x="5938920" y="693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7280" y="620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96000" y="549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796000" y="1557360"/>
            <a:ext cx="503280" cy="504720"/>
            <a:chOff x="5796000" y="1557360"/>
            <a:chExt cx="503280" cy="504720"/>
          </a:xfrm>
        </p:grpSpPr>
        <p:sp>
          <p:nvSpPr>
            <p:cNvPr id="67" name=""/>
            <p:cNvSpPr/>
            <p:nvPr/>
          </p:nvSpPr>
          <p:spPr>
            <a:xfrm>
              <a:off x="5938920" y="1701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67280" y="1628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96000" y="1557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96000" y="4581360"/>
            <a:ext cx="503280" cy="504720"/>
            <a:chOff x="5796000" y="4581360"/>
            <a:chExt cx="503280" cy="504720"/>
          </a:xfrm>
        </p:grpSpPr>
        <p:sp>
          <p:nvSpPr>
            <p:cNvPr id="71" name=""/>
            <p:cNvSpPr/>
            <p:nvPr/>
          </p:nvSpPr>
          <p:spPr>
            <a:xfrm>
              <a:off x="5938920" y="4725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67280" y="4652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96000" y="4581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796000" y="3573360"/>
            <a:ext cx="503280" cy="504720"/>
            <a:chOff x="5796000" y="3573360"/>
            <a:chExt cx="503280" cy="504720"/>
          </a:xfrm>
        </p:grpSpPr>
        <p:sp>
          <p:nvSpPr>
            <p:cNvPr id="75" name=""/>
            <p:cNvSpPr/>
            <p:nvPr/>
          </p:nvSpPr>
          <p:spPr>
            <a:xfrm>
              <a:off x="5938920" y="3717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67280" y="3644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6000" y="3573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867280" y="2565360"/>
            <a:ext cx="503280" cy="504720"/>
            <a:chOff x="5867280" y="2565360"/>
            <a:chExt cx="503280" cy="504720"/>
          </a:xfrm>
        </p:grpSpPr>
        <p:sp>
          <p:nvSpPr>
            <p:cNvPr id="79" name=""/>
            <p:cNvSpPr/>
            <p:nvPr/>
          </p:nvSpPr>
          <p:spPr>
            <a:xfrm>
              <a:off x="6010200" y="270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38560" y="263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67280" y="2565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8000" y="477720"/>
            <a:ext cx="273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1080" y="54936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Unit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549360"/>
            <a:ext cx="15843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549360"/>
            <a:ext cx="1297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p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736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ctus 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437080" y="477720"/>
            <a:ext cx="2376720" cy="936720"/>
            <a:chOff x="5437080" y="477720"/>
            <a:chExt cx="2376720" cy="936720"/>
          </a:xfrm>
        </p:grpSpPr>
        <p:sp>
          <p:nvSpPr>
            <p:cNvPr id="88" name=""/>
            <p:cNvSpPr/>
            <p:nvPr/>
          </p:nvSpPr>
          <p:spPr>
            <a:xfrm>
              <a:off x="5437080" y="477720"/>
              <a:ext cx="2376720" cy="93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c19a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37080" y="477720"/>
              <a:ext cx="237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6227640" y="838080"/>
              <a:ext cx="792360" cy="289080"/>
              <a:chOff x="6227640" y="838080"/>
              <a:chExt cx="792360" cy="289080"/>
            </a:xfrm>
          </p:grpSpPr>
          <p:sp>
            <p:nvSpPr>
              <p:cNvPr id="91" name=""/>
              <p:cNvSpPr/>
              <p:nvPr/>
            </p:nvSpPr>
            <p:spPr>
              <a:xfrm>
                <a:off x="6227640" y="838080"/>
                <a:ext cx="792360" cy="28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248520" y="862200"/>
                <a:ext cx="35424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623640" y="862200"/>
                <a:ext cx="37548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300720" y="911160"/>
              <a:ext cx="792360" cy="288720"/>
              <a:chOff x="6300720" y="911160"/>
              <a:chExt cx="792360" cy="288720"/>
            </a:xfrm>
          </p:grpSpPr>
          <p:sp>
            <p:nvSpPr>
              <p:cNvPr id="95" name=""/>
              <p:cNvSpPr/>
              <p:nvPr/>
            </p:nvSpPr>
            <p:spPr>
              <a:xfrm>
                <a:off x="6300720" y="911160"/>
                <a:ext cx="792360" cy="288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21600" y="934920"/>
                <a:ext cx="354240" cy="240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96720" y="934920"/>
                <a:ext cx="375480" cy="240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372360" y="982440"/>
              <a:ext cx="792000" cy="289080"/>
              <a:chOff x="6372360" y="982440"/>
              <a:chExt cx="792000" cy="289080"/>
            </a:xfrm>
          </p:grpSpPr>
          <p:sp>
            <p:nvSpPr>
              <p:cNvPr id="99" name=""/>
              <p:cNvSpPr/>
              <p:nvPr/>
            </p:nvSpPr>
            <p:spPr>
              <a:xfrm>
                <a:off x="6372360" y="982440"/>
                <a:ext cx="792000" cy="28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393240" y="1006560"/>
                <a:ext cx="35424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768360" y="1006560"/>
                <a:ext cx="37548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2916360" y="69372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2200" y="69372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3-12-19T08:04:01Z</dcterms:modified>
  <cp:revision>23</cp:revision>
  <dc:subject/>
  <dc:title>Présentation PowerPoint</dc:title>
</cp:coreProperties>
</file>