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1D2-27C0-40ED-9E86-603EE9D9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769-5BB8-4BE5-B90D-CF029F5D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5504-1C4D-4CCE-A820-91FCCBE5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FC1-A596-4DA9-A8B1-11C4D1BA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A69D-83E6-4327-AD1D-58310CD0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91B-E798-4522-B4DF-92B3547A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9244-74A1-498A-879C-B5A1DAF1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736C-42AD-4C77-8F26-356F9475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DEC0-9E82-40E0-8DE7-5C66DC7D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6B52-A43B-4714-BF28-00E99C0B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B38-873B-4732-916D-59A380B1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4B62-3198-4A5A-8A70-B2974DA7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CAE1-83F0-4E16-9ADF-2BBC28960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2:13Z</dcterms:modified>
  <cp:revision>7</cp:revision>
  <dc:subject/>
  <dc:title>Présentation PowerPoint</dc:title>
</cp:coreProperties>
</file>