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3C41-E559-4AF7-A5DD-946FF1EB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CD69-8AEB-4312-BD71-3FD6C710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9D2-3FC8-498B-9115-6A5C22B5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641B-9C08-47A1-B220-0B2B9902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FD50-3E22-49DC-8AE4-2C87CC07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75CA-C85D-4512-833B-0490829A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CF2E-700C-4ED4-85D5-07953030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C8E6-FB1C-42E2-859E-A6C3E88A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A387-9AFB-41B0-B9DD-A8E34773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9BEC-A544-490B-8C9A-CDDCD6EE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59A-3A86-4DBE-B91D-9DC59A58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8667-89C6-4262-874C-60214064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8C8A-A74D-414F-938E-F163B48CD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9200" y="1368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81280" y="2889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05200" y="28843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40080" y="2916360"/>
            <a:ext cx="100836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040" y="13795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7516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2120" y="2133720"/>
            <a:ext cx="100836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280" y="2916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512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3365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9080" y="193500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1935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329400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080" y="121428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1214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265572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2655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3-11-01T13:30:19Z</dcterms:modified>
  <cp:revision>52</cp:revision>
  <dc:subject/>
  <dc:title>Présentation PowerPoint</dc:title>
</cp:coreProperties>
</file>