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FD0-33C6-4897-8626-32DDC58F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AB9E-75CD-41EC-8F0F-B4F836C6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61DA-1FFF-4D23-A73A-0A803EE2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A4D-3860-467E-812E-8BA818D7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8EF-CCB7-457C-BF68-B09F034E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0E1-5244-456F-AE56-C7617DE3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F84-EB4D-4B89-99CD-056AD13B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A02-0F6E-4668-BC46-B42A13E6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B1F-DAC9-4CB9-B370-075FAF5C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6B9D-EE6F-445F-AA21-075500B0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4E5-5B9B-429C-932B-AD082145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4F5-81AF-4595-9981-A0A9E3DF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2807-6B74-4E0C-88BF-C30C00DE3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50Z</dcterms:modified>
  <cp:revision>6</cp:revision>
  <dc:subject/>
  <dc:title>Présentation PowerPoint</dc:title>
</cp:coreProperties>
</file>