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FD2B-D850-4108-8308-01E4649D4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6785-C816-45CF-B812-101DD1E2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B803-81E1-46F5-A80D-9F896BF14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D0C0-BC2F-48B5-A2A3-A7E2929C2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F8AE-E48A-4E1E-BF84-6A2BC0F5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D3C3-3809-41D6-BB89-8D6BCDF7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E7D9-6C83-4475-AC2D-C009EA49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6022-F2E4-4EA7-BED8-7F46F497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B4EA-633B-47BF-A21F-31D6D18F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E010-C4C6-45B7-B68B-824E3A0E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7BA3-7CA4-47A5-9880-9589315D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D22D-EFE0-47D7-9D4E-9DF33C62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1A38-EB1D-4F5F-9908-138301993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114800"/>
            <a:ext cx="2666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agli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J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5146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048120" y="198108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86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3526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2590920"/>
            <a:ext cx="45720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25909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vailable in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3200400"/>
            <a:ext cx="457200" cy="304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304812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ork in progress. Partly available in Cactus or soon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380988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38098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urrently out of Cactus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Vincent Massol</cp:lastModifiedBy>
  <dcterms:modified xsi:type="dcterms:W3CDTF">2002-04-14T08:58:57Z</dcterms:modified>
  <cp:revision>12</cp:revision>
  <dc:subject/>
  <dc:title>Présentation PowerPoint</dc:title>
</cp:coreProperties>
</file>