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1DC-2054-4540-B31F-D96EBF56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28A-D787-4756-8743-74375816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6BA-7AA9-4F29-99D3-FDEEF099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3EC-431D-48E8-99B0-F235B530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108-BF3A-48AA-9A19-CD7F0EA3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CAC-1313-4265-9582-29D49DDB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D2B-F92A-456B-B654-03406C6A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44C-BCA5-4E9C-B138-0127EB45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301-DF93-4AE1-BD4F-A2BCF3AC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27D-C5D2-4864-B983-DF911328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CE1-4F5D-4EC4-9835-50ECFD40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F50-574E-44A5-BACE-5DBD6F6B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4B89-69ED-42D1-B850-5AEA65F83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23Z</dcterms:modified>
  <cp:revision>6</cp:revision>
  <dc:subject/>
  <dc:title>Présentation PowerPoint</dc:title>
</cp:coreProperties>
</file>