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0F2-6830-47AF-9BEA-F1011514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97C-4512-4D16-9243-39E2786E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74E-2FA9-417D-8C2A-0F9E4849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678-A86D-4FB8-A22F-172EEA8C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F19B-88D9-4AB3-B155-057966F2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659-5CFA-4A35-B79A-AAE6616F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DF9-5B7A-4A42-8D29-5E668939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CB0-37EE-4153-9B6B-87E14FBB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F12-377D-45CC-8390-71BC9F9A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14ED-9CF6-450B-8848-B5129282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CB4-2EAC-4183-8B14-F00C1FF4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DF3-B937-406C-96D9-F38F1C4B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9B26-B5AC-4AC8-92E2-0D4189925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50Z</dcterms:modified>
  <cp:revision>6</cp:revision>
  <dc:subject/>
  <dc:title>Présentation PowerPoint</dc:title>
</cp:coreProperties>
</file>