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67C0-FC2E-40D5-BE49-5C602DD40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4FE5-9637-45F0-85D2-59CC6AC1B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8999-3268-4427-8FEB-F4C2CBEAC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B422-3299-47F7-8583-0A8C773BE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F964-7748-4BB0-9F86-D96D4280D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8124-A037-495D-8D94-21C4A5ABB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189E-DC75-4F71-9559-D1C61F5E0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3F68-1B97-42CE-9A3A-26475B9EE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619F-CE56-4B61-96E4-E7F21E3DC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9CED-BAC4-4931-8AFC-EA5DE790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4A66-B2F8-4EE5-B867-8D75398A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E3D3-7C5E-41CB-8139-ADA016178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836CB-D47C-497B-811A-9BABA2078A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8128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228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67080" y="1981080"/>
            <a:ext cx="10670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1752480"/>
            <a:ext cx="13716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242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14763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42864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812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44756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91120" y="1905120"/>
            <a:ext cx="10666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14800" y="1828800"/>
            <a:ext cx="10666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8480" y="380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67080" y="1522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tUp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XXX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arDow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52480" y="6858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0972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3920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4572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320" y="16574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15573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2602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7431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4-04-21T19:24:13Z</dcterms:modified>
  <cp:revision>5</cp:revision>
  <dc:subject/>
  <dc:title>Présentation PowerPoint</dc:title>
</cp:coreProperties>
</file>