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6B1-43AF-4E48-A811-D4AFC2CA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717-847E-4AC5-8890-4AD58596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E0F-01D9-4D87-8408-B50B39E4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C76D-08E1-4BDD-AD4D-39C17321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CCBA-E6F2-4DFE-AC9A-56DEFC53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F6A-65B0-4C91-8901-B0B59D2C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B29B-B925-43F8-AA7D-747648FB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032-C10E-4734-82E6-EE14EBB8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896-2B27-4F58-9245-4A9737F4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851-E4BE-4741-8367-F25851D7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790F-A150-4A34-8101-AFF90006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567F-0CED-4F4B-AE58-21DBAC49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80D5-DD94-4FDA-9F01-7D903F58F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0" y="1368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81280" y="2889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05200" y="28843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40080" y="2916360"/>
            <a:ext cx="100836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040" y="13795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7516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2133720"/>
            <a:ext cx="100836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280" y="2916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365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9080" y="193500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1935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329400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121428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1214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265572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2655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3-11-01T13:30:19Z</dcterms:modified>
  <cp:revision>52</cp:revision>
  <dc:subject/>
  <dc:title>Présentation PowerPoint</dc:title>
</cp:coreProperties>
</file>