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646-7A2D-49C8-BB6E-7C1302EC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BD9-19EF-4477-8561-EB0C13ED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D69-4FD3-4AB9-B43D-A83E5C0B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0E3-1014-4CF2-854B-8E701EAF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9F0-3C39-44EC-9DF2-4E9759DD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334-07A8-48D8-98E3-46B7F979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E4A-B2B2-4695-BECE-CBDD5163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0B4-3369-41A1-AA8A-9734059A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FB2-2344-4792-9760-2A54862E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2E9-466D-49D0-88CB-31FDFAAC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C81-9978-4B7E-B392-02EA2A63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501-5A0E-49E7-9D73-EC0FBDE3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541D-EB01-4A91-9E40-738A36EAA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2:13Z</dcterms:modified>
  <cp:revision>7</cp:revision>
  <dc:subject/>
  <dc:title>Présentation PowerPoint</dc:title>
</cp:coreProperties>
</file>