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DE3A-D077-4FC3-B212-37114DAD4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8B51-59F4-4CAF-98D6-79889DB48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703D-356C-43D8-ACCF-878DDC3AB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87CD-D2F5-4B01-B53D-B3CC0E2AA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93B0-DA40-45B5-9E73-5C35105D2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1C80-2839-4F91-A0A4-04B817D8D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3CFA-1C49-45F2-95E6-5E32DB51E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00C1-94AC-4A51-93D9-5AD36EA9F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83DC-EED4-4ED0-947C-28BC02046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18BF-E01F-4E67-8D95-916894B13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69F0-DA39-45C1-97C1-2E2E06E91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8A43-DD15-4B07-A6CF-E805AC020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D3B3E-3F9F-4E07-B2DE-D8DEE3DBE4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ilter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03848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ilter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4792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8128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2286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267080" y="1981080"/>
            <a:ext cx="106704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1752480"/>
            <a:ext cx="13716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724280" y="144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147636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42864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812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144756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91120" y="1905120"/>
            <a:ext cx="106668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14800" y="1828800"/>
            <a:ext cx="106668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38480" y="3808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267080" y="152280"/>
            <a:ext cx="1067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tUp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XXX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arDow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ien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05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52480" y="6858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09720" y="1295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320" y="39204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4572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320" y="165744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155736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2602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17431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4-04-21T19:23:23Z</dcterms:modified>
  <cp:revision>6</cp:revision>
  <dc:subject/>
  <dc:title>Présentation PowerPoint</dc:title>
</cp:coreProperties>
</file>