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6FBB-4C90-4B93-9C23-B66D7193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5D20-F8EA-437A-B3D3-5805D0D3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5209-6CE6-4DFA-80B8-3FA15E54C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47DA-E2E2-499B-8600-356BD62C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6E04-DA21-4A43-B043-376680ED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C91D-FE7E-4FA3-AF2D-A27C6A3E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5F4D-51AF-40EB-A67A-D857AB6C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F841-134C-4283-B85D-5528EC08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EE9E-0B5D-4BF3-9610-03C38984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2992-2854-489C-8306-7E33971F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F677-0728-4F95-95B5-6F1E823F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DC33-20D2-48B9-9ECB-8CF1F23A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474B-751A-4681-82E5-2EBBEF84B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060640"/>
            <a:ext cx="1151280" cy="93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36600" y="1243080"/>
            <a:ext cx="3216240" cy="2585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89200" y="13683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81280" y="2889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05200" y="28843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40080" y="2916360"/>
            <a:ext cx="100836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i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040" y="13795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7516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ts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160" y="419040"/>
            <a:ext cx="5298840" cy="423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2120" y="2133720"/>
            <a:ext cx="100836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280" y="2916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512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501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ctus 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9080" y="336564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9080" y="193500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193500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77080" y="329400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rnal tools and frameworks integrated with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9080" y="121428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77080" y="121428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9080" y="265572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265572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3-11-01T13:30:19Z</dcterms:modified>
  <cp:revision>52</cp:revision>
  <dc:subject/>
  <dc:title>Présentation PowerPoint</dc:title>
</cp:coreProperties>
</file>