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7B8-A0C5-4948-8739-3B0CE84C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053A-9EFD-453E-A55A-BD9A03AF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FDC-79C6-45A6-9D2F-CBFDDBAF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096-F5B0-4917-B038-6F8E20D9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B1F-5871-4867-9CFF-1CD67B97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246-DEA7-4AC3-B722-A2BA183E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68F-E409-4AB5-B271-556F657A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C33-797E-486F-A4B7-85618D2C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882-17F4-4CE1-8A0C-2CC20DE1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165-D6B6-4D21-ADB4-BA8D9E76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40F2-8792-4546-8413-D96CEC70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3CC-75AD-47A7-9547-B7B2AD69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A513-8571-4A08-AE90-96C381A54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907920"/>
            <a:ext cx="331344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4920" y="2708280"/>
            <a:ext cx="1009800" cy="1008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97120" y="1557360"/>
            <a:ext cx="36216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907920"/>
            <a:ext cx="324036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9079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0872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6000" y="1341360"/>
            <a:ext cx="1223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2560" y="155736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2781360"/>
            <a:ext cx="1223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5840" y="1557360"/>
            <a:ext cx="1009800" cy="503280"/>
          </a:xfrm>
          <a:prstGeom prst="rightArrow">
            <a:avLst>
              <a:gd name="adj1" fmla="val 45111"/>
              <a:gd name="adj2" fmla="val 359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4920" y="119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211280" y="2133720"/>
            <a:ext cx="3024360" cy="863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90792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67640" y="2276640"/>
            <a:ext cx="431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63640" y="227592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est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2781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220500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249228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69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23T12:49:51Z</dcterms:modified>
  <cp:revision>40</cp:revision>
  <dc:subject/>
  <dc:title>Présentation PowerPoint</dc:title>
</cp:coreProperties>
</file>