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37F-6424-41A0-936E-D46FAC8C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E04-EE8F-43FC-9F8D-28695489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832-4B5B-4A36-87D4-D0DF31EA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41A-1C84-4A5F-87BF-00D2ACC2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1FB-89FE-4F15-88D9-73989709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533-044A-4031-AF64-AB40A06C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BB3-1607-4C01-90B8-A858D54C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5AC-E9B4-44D5-89ED-79DCD3C9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B49C-649C-4571-A344-B30E51A7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99C-71F7-43A4-9853-02D198BE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74C-91E4-4A06-9607-E589037A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994-9B69-4EB9-B69A-AA91C101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EF03-3C8B-4294-BD43-55293A25A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189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59280" y="189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1197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1197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2205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205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 (Eclipse, IntelliJ,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3213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3213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MS 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4221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4221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AI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33336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1125360"/>
            <a:ext cx="1584360" cy="7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1917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2709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etty/Ope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350208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429264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27664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13372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91628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34936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234936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96000" y="549360"/>
            <a:ext cx="503280" cy="504720"/>
            <a:chOff x="5796000" y="549360"/>
            <a:chExt cx="503280" cy="504720"/>
          </a:xfrm>
        </p:grpSpPr>
        <p:sp>
          <p:nvSpPr>
            <p:cNvPr id="63" name=""/>
            <p:cNvSpPr/>
            <p:nvPr/>
          </p:nvSpPr>
          <p:spPr>
            <a:xfrm>
              <a:off x="5938920" y="693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620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6000" y="549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796000" y="1557360"/>
            <a:ext cx="503280" cy="504720"/>
            <a:chOff x="5796000" y="1557360"/>
            <a:chExt cx="503280" cy="504720"/>
          </a:xfrm>
        </p:grpSpPr>
        <p:sp>
          <p:nvSpPr>
            <p:cNvPr id="67" name=""/>
            <p:cNvSpPr/>
            <p:nvPr/>
          </p:nvSpPr>
          <p:spPr>
            <a:xfrm>
              <a:off x="5938920" y="1701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67280" y="1628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6000" y="1557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96000" y="4581360"/>
            <a:ext cx="503280" cy="504720"/>
            <a:chOff x="5796000" y="4581360"/>
            <a:chExt cx="503280" cy="504720"/>
          </a:xfrm>
        </p:grpSpPr>
        <p:sp>
          <p:nvSpPr>
            <p:cNvPr id="71" name=""/>
            <p:cNvSpPr/>
            <p:nvPr/>
          </p:nvSpPr>
          <p:spPr>
            <a:xfrm>
              <a:off x="5938920" y="4725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4652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6000" y="4581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796000" y="3573360"/>
            <a:ext cx="503280" cy="504720"/>
            <a:chOff x="5796000" y="3573360"/>
            <a:chExt cx="503280" cy="504720"/>
          </a:xfrm>
        </p:grpSpPr>
        <p:sp>
          <p:nvSpPr>
            <p:cNvPr id="75" name=""/>
            <p:cNvSpPr/>
            <p:nvPr/>
          </p:nvSpPr>
          <p:spPr>
            <a:xfrm>
              <a:off x="5938920" y="3717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7280" y="3644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6000" y="3573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867280" y="2565360"/>
            <a:ext cx="503280" cy="504720"/>
            <a:chOff x="5867280" y="2565360"/>
            <a:chExt cx="503280" cy="504720"/>
          </a:xfrm>
        </p:grpSpPr>
        <p:sp>
          <p:nvSpPr>
            <p:cNvPr id="79" name=""/>
            <p:cNvSpPr/>
            <p:nvPr/>
          </p:nvSpPr>
          <p:spPr>
            <a:xfrm>
              <a:off x="6010200" y="270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38560" y="263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67280" y="2565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477720"/>
            <a:ext cx="273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080" y="549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t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9360"/>
            <a:ext cx="1584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549360"/>
            <a:ext cx="1297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73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 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437080" y="477720"/>
            <a:ext cx="2376720" cy="936720"/>
            <a:chOff x="5437080" y="477720"/>
            <a:chExt cx="2376720" cy="936720"/>
          </a:xfrm>
        </p:grpSpPr>
        <p:sp>
          <p:nvSpPr>
            <p:cNvPr id="88" name=""/>
            <p:cNvSpPr/>
            <p:nvPr/>
          </p:nvSpPr>
          <p:spPr>
            <a:xfrm>
              <a:off x="5437080" y="477720"/>
              <a:ext cx="237672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c19a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37080" y="477720"/>
              <a:ext cx="237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6227640" y="838080"/>
              <a:ext cx="792360" cy="289080"/>
              <a:chOff x="6227640" y="838080"/>
              <a:chExt cx="792360" cy="289080"/>
            </a:xfrm>
          </p:grpSpPr>
          <p:sp>
            <p:nvSpPr>
              <p:cNvPr id="91" name=""/>
              <p:cNvSpPr/>
              <p:nvPr/>
            </p:nvSpPr>
            <p:spPr>
              <a:xfrm>
                <a:off x="6227640" y="838080"/>
                <a:ext cx="79236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248520" y="86220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23640" y="86220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00720" y="911160"/>
              <a:ext cx="792360" cy="288720"/>
              <a:chOff x="6300720" y="911160"/>
              <a:chExt cx="792360" cy="288720"/>
            </a:xfrm>
          </p:grpSpPr>
          <p:sp>
            <p:nvSpPr>
              <p:cNvPr id="95" name=""/>
              <p:cNvSpPr/>
              <p:nvPr/>
            </p:nvSpPr>
            <p:spPr>
              <a:xfrm>
                <a:off x="6300720" y="911160"/>
                <a:ext cx="792360" cy="288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21600" y="934920"/>
                <a:ext cx="35424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96720" y="934920"/>
                <a:ext cx="37548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372360" y="982440"/>
              <a:ext cx="792000" cy="289080"/>
              <a:chOff x="6372360" y="982440"/>
              <a:chExt cx="792000" cy="289080"/>
            </a:xfrm>
          </p:grpSpPr>
          <p:sp>
            <p:nvSpPr>
              <p:cNvPr id="99" name=""/>
              <p:cNvSpPr/>
              <p:nvPr/>
            </p:nvSpPr>
            <p:spPr>
              <a:xfrm>
                <a:off x="6372360" y="982440"/>
                <a:ext cx="79200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393240" y="100656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68360" y="100656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291636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220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19T08:04:01Z</dcterms:modified>
  <cp:revision>23</cp:revision>
  <dc:subject/>
  <dc:title>Présentation PowerPoint</dc:title>
</cp:coreProperties>
</file>