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9DCC-A34E-45A5-93F8-836F40E5E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DC95-1CDE-4590-A5CA-331EAD054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E0BA-F9D7-409C-847B-519E39253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52EA-2B19-477B-A2B7-8DDE239DB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F87D-C9F5-4118-969C-5671AD6CB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5230-386A-4CB7-9959-26BE36F36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7723-631D-48D7-9A88-E1783D34A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E002-59ED-4E39-BABD-56C186EC0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5EE9-3136-481C-AB4C-BEC25A9F8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9439-FC40-42CF-9D4C-2DE5918E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50DB-1B48-47EA-8BEC-890D0ECD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07D2-135E-4AD6-84BC-E012FF04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A3EA6-B911-43C6-9589-B5D0E8B7EE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YY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YY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3920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16574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5573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42864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812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44756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0020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2602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17431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4-04-21T19:22:13Z</dcterms:modified>
  <cp:revision>7</cp:revision>
  <dc:subject/>
  <dc:title>Présentation PowerPoint</dc:title>
</cp:coreProperties>
</file>