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0BB-B7E4-49CF-90EE-A05350A3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7BA-AB5F-4863-9095-FD51310E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44E-52A2-4B53-B1F3-43A97184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47C-3F8D-47CB-A4C6-C54D11ED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56A-1683-41B0-96BD-025BE099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DD3-EC8D-44E5-8408-F79E5857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25D-7108-4C58-9119-781E322C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9D2-71D6-4EBB-BDCD-1EFFA1B2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ED6C-BB69-441C-984D-AC5013DA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73F-6E73-4BAC-B0ED-32FF3D16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219-13A5-4620-9E69-61617E0F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0EC-2190-432B-B248-1B1ECD55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C8B1-A84A-41E0-BF36-849C863F8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4:13Z</dcterms:modified>
  <cp:revision>5</cp:revision>
  <dc:subject/>
  <dc:title>Présentation PowerPoint</dc:title>
</cp:coreProperties>
</file>