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70B1-E9EE-477F-BCE1-DE2394754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A853-2E6C-499F-B914-46BEADB08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0F62-BD90-45A8-98B3-A900FE895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69C1-7918-4EA3-8186-CFA18EC90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E96E-A8D3-42F0-A12B-BE6B407B0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196A-D57E-48F6-A4A2-02DDE6AE7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D858-6BF1-472A-BB1D-01FF67E7F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EDCB-0737-486A-ADBC-06A7152ED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B72A-CC64-4CF9-8B92-184157D5F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D27D-3262-4555-AFF4-81A0281A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BBDF-D34E-43DA-933D-61CFD087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00C3-34E9-4545-BA11-B5DCA752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EDC81-F294-43CE-89BB-F56411DD7C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68360" y="2060640"/>
            <a:ext cx="1151280" cy="936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36600" y="1243080"/>
            <a:ext cx="3216240" cy="25858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40000" y="2133720"/>
            <a:ext cx="1008000" cy="792000"/>
          </a:xfrm>
          <a:prstGeom prst="ellipse">
            <a:avLst/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a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58920" y="2133720"/>
            <a:ext cx="1008000" cy="79200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89200" y="1368360"/>
            <a:ext cx="1008000" cy="79236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cli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u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81280" y="2889360"/>
            <a:ext cx="1008000" cy="79200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n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05200" y="2884320"/>
            <a:ext cx="1008000" cy="79236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19640" y="2133720"/>
            <a:ext cx="1008000" cy="79200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et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40080" y="2916360"/>
            <a:ext cx="1008360" cy="79200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Uni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94040" y="1379520"/>
            <a:ext cx="1008000" cy="79236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u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11640" y="1338120"/>
            <a:ext cx="1008000" cy="79236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en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75160" y="2133720"/>
            <a:ext cx="1008000" cy="79200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ruts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0160" y="419040"/>
            <a:ext cx="5298840" cy="4237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2120" y="2133720"/>
            <a:ext cx="1008360" cy="792000"/>
          </a:xfrm>
          <a:prstGeom prst="ellipse">
            <a:avLst/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rv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280" y="2916360"/>
            <a:ext cx="1008000" cy="792000"/>
          </a:xfrm>
          <a:prstGeom prst="ellipse">
            <a:avLst/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et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5120" y="1338120"/>
            <a:ext cx="1008000" cy="792360"/>
          </a:xfrm>
          <a:prstGeom prst="ellipse">
            <a:avLst/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J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5013360"/>
            <a:ext cx="51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Cactus Eco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69080" y="3365640"/>
            <a:ext cx="93636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9080" y="1935000"/>
            <a:ext cx="93636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77080" y="1935000"/>
            <a:ext cx="17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ded with the Cactus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77080" y="3294000"/>
            <a:ext cx="187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ternal tools and frameworks integrated with 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869080" y="1214280"/>
            <a:ext cx="93636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77080" y="1214280"/>
            <a:ext cx="17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ded with the Cactus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869080" y="2655720"/>
            <a:ext cx="93636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77080" y="2655720"/>
            <a:ext cx="17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ded with the Cactus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3-11-01T13:30:19Z</dcterms:modified>
  <cp:revision>52</cp:revision>
  <dc:subject/>
  <dc:title>Présentation PowerPoint</dc:title>
</cp:coreProperties>
</file>