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51D-6009-4C79-8088-5F8920C5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062-D5CA-42ED-BA6C-B2015E26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ACE-E4AE-4860-9155-4A4DEC21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1F0-5E91-42E0-AD6E-6ABF6A83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62B-63DA-4D3B-BBB6-3AEDBC12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7F8-D6BD-4DCD-A1D8-C7BB4892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9C8A-2A7F-4FDA-BB7B-8B6AC171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1E32-7D41-4E38-9CA0-B4EDDDDE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E51-6615-4D1F-9B43-BE494123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F2B3-58C4-4AD4-8A84-CA5594F0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A438-4AE3-404E-A329-2C7205F7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4FE-521C-4132-B7EA-C35C455E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8671-C283-44ED-ADFD-8DF3C8276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907920"/>
            <a:ext cx="331344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r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4920" y="2708280"/>
            <a:ext cx="1009800" cy="1008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97120" y="1557360"/>
            <a:ext cx="36216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0360" y="1197000"/>
            <a:ext cx="289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907920"/>
            <a:ext cx="324036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80000" y="90792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0872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6000" y="1341360"/>
            <a:ext cx="1223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r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02560" y="155736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2781360"/>
            <a:ext cx="1223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25840" y="1557360"/>
            <a:ext cx="1009800" cy="503280"/>
          </a:xfrm>
          <a:prstGeom prst="rightArrow">
            <a:avLst>
              <a:gd name="adj1" fmla="val 45111"/>
              <a:gd name="adj2" fmla="val 359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14920" y="119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211280" y="2133720"/>
            <a:ext cx="3024360" cy="863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90792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1197000"/>
            <a:ext cx="289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263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67640" y="2276640"/>
            <a:ext cx="431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263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763640" y="227592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est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278136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st Ru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2205000"/>
            <a:ext cx="792000" cy="719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249228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6692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3-12-23T12:49:51Z</dcterms:modified>
  <cp:revision>40</cp:revision>
  <dc:subject/>
  <dc:title>Présentation PowerPoint</dc:title>
</cp:coreProperties>
</file>