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5A8-EAC1-455D-AA4D-DE095470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25D-76FE-4BF8-8D3B-259BE3E2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DCB2-90F6-4CBE-8632-87F3DFC5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915-2DAC-4899-828C-93A5B80D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AEAC-8295-4FCF-9BCD-78448F6A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59C8-1116-4065-B70C-A565836F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A51-059C-423A-98DA-782BF6CF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68B-1089-4D1B-ADB2-E482E503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F7D-9A1D-4631-B69A-7D29D293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DF9-D6A4-4621-A8F6-ACED0538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89FC-E611-4428-B36A-9100546C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80C3-0466-4B83-85CB-2C567C10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0B5A-C1C6-4CC8-904E-1561858B8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2:13Z</dcterms:modified>
  <cp:revision>7</cp:revision>
  <dc:subject/>
  <dc:title>Présentation PowerPoint</dc:title>
</cp:coreProperties>
</file>