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1644-5B09-400A-A339-0C3C3A8AB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D7E0-25E3-419D-9243-DDC48D52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7911-886E-48DC-9728-832DE18A3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7153-80C5-4351-BB91-2482481E8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CA2A-5B9E-4B55-99C2-B8AB949F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3C1C-1863-4515-AFC1-F4696D0D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6443-521B-499D-81A3-6F423514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9665-71A1-4454-83F5-BB6D74CA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6863-BB82-489F-A9F6-C930AA69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8E23-5DEF-43C9-827A-D1726B10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5E17-C06F-4C81-9705-57E96DE9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56E8-A8D4-40D1-BCCA-31C61DAB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09DD-2161-4CDA-8E3F-A4EB4DAD1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3920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16574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557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60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743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4-04-21T19:23:23Z</dcterms:modified>
  <cp:revision>6</cp:revision>
  <dc:subject/>
  <dc:title>Présentation PowerPoint</dc:title>
</cp:coreProperties>
</file>