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9B4B8-CC97-46CB-A25B-283115AF7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42DB8-3691-428A-8F1D-400912D78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88ED3-C8AE-41CF-8689-EB7E4E6BD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DB7D9-308F-4D07-AA5B-2DB94D316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09430-BE37-423C-890D-33E8E4AFB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B9587-221F-42C5-9905-BE5E8F673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5E672-D92E-4604-AE76-30C094E92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2D778-C369-46B7-A0BA-29EDAD3B0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C3D8C-A275-4819-AF6A-CF314E2FF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8AEAE-9F01-4C80-819C-C0AF6C6CD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89CDB-5187-4F38-AB70-9799B46B5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48BF9-678D-4902-AF1F-3FC928321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1BECB-9B51-429F-842A-54F0819D48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838080"/>
            <a:ext cx="13716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letTest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057400" y="838080"/>
            <a:ext cx="13716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66ff"/>
              </a:gs>
              <a:gs pos="100000">
                <a:srgbClr val="e7bb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edir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l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038480" y="838080"/>
            <a:ext cx="13716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letTest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9907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447920" y="68580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9907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581280" y="68580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5120" y="22860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267080" y="1981080"/>
            <a:ext cx="106704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038480" y="1752480"/>
            <a:ext cx="137160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724280" y="1447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147636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428640" y="1219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581280" y="129528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1447560" y="1219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523880" y="129528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91120" y="1905120"/>
            <a:ext cx="1066680" cy="761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114800" y="1828800"/>
            <a:ext cx="106668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038480" y="38088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267080" y="152280"/>
            <a:ext cx="10670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tUp(),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stXXX(),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arDown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243828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ient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05120" y="243828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752480" y="68580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09720" y="129528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6320" y="39204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4920" y="45720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beginXXX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6320" y="165744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04920" y="155736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XXX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04920" y="2602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begin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04920" y="174312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5T16:11:12Z</dcterms:created>
  <dc:creator>Vincent Massol</dc:creator>
  <dc:description/>
  <dc:language>en-US</dc:language>
  <cp:lastModifiedBy>Vincent Massol</cp:lastModifiedBy>
  <dcterms:modified xsi:type="dcterms:W3CDTF">2004-04-21T19:24:13Z</dcterms:modified>
  <cp:revision>5</cp:revision>
  <dc:subject/>
  <dc:title>Présentation PowerPoint</dc:title>
</cp:coreProperties>
</file>