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A27D-90AD-4B62-88AF-D7F842FB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AD2-3527-4786-BBF7-56ADA41A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CDB6-2DB2-492B-B882-C62C7B51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D092-97DA-4D24-B55B-547727B5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4097-7A9E-4F59-813E-550B0B08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1D22-9B9A-440D-86A2-2765E4CF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7ED7-C91F-4D1F-9B20-3151A152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7B8-6F44-463D-B236-15AF9E8E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766F-CD6A-4B87-8B7E-C1C2F8C9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51B7-A553-448A-AA94-3F52D1F9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0DA9-2CE9-46AB-9E68-E203F2D9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4FC8-4652-481D-A0E6-F10BD708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8727-9B3B-4CA2-A965-FBF3D75D7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9200" y="1368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81280" y="2889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05200" y="28843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40080" y="2916360"/>
            <a:ext cx="100836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040" y="13795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7516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2120" y="2133720"/>
            <a:ext cx="100836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280" y="2916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512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3365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9080" y="193500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1935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329400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9080" y="121428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1214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080" y="265572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2655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3-11-01T13:30:19Z</dcterms:modified>
  <cp:revision>52</cp:revision>
  <dc:subject/>
  <dc:title>Présentation PowerPoint</dc:title>
</cp:coreProperties>
</file>