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C4E5-E7CE-40F8-9173-79AB72D7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DA1B-9DD0-4823-9ABD-8A80AE19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AB27-F581-48E6-9AC8-17C37C20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8627-A23A-43FC-9479-B5DD087A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A290-F0B4-4DE3-A79A-E217A2A7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43D4-F23F-45E4-8B23-87A3008B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5956-5B06-42D5-9204-D02603CC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EF72-520D-436C-AD70-8AFF8BD7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36C0-EA1F-4272-9EC7-F3E64C33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31D9-11C6-4112-9011-BE28DCDE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74A0-ADB9-4DE8-8D36-1C237CCF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284E-579F-4934-B0ED-C95C77D5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1721-41AA-4BCA-B607-CD0BFD6EA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2666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ag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146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48120" y="19810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8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526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590920"/>
            <a:ext cx="457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590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3200400"/>
            <a:ext cx="457200" cy="304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0481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rk in progress. Partly available in Cactus or soon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38098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38098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urrently out of Cactus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2-04-14T08:58:57Z</dcterms:modified>
  <cp:revision>12</cp:revision>
  <dc:subject/>
  <dc:title>Présentation PowerPoint</dc:title>
</cp:coreProperties>
</file>