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909720" y="460440"/>
            <a:ext cx="8688240" cy="6762600"/>
          </a:xfrm>
          <a:prstGeom prst="roundRect">
            <a:avLst>
              <a:gd name="adj" fmla="val 2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389240" y="939960"/>
            <a:ext cx="1101600" cy="795240"/>
          </a:xfrm>
          <a:prstGeom prst="roundRect">
            <a:avLst>
              <a:gd name="adj" fmla="val 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181320" y="3225960"/>
            <a:ext cx="1101600" cy="795240"/>
          </a:xfrm>
          <a:prstGeom prst="roundRect">
            <a:avLst>
              <a:gd name="adj" fmla="val 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187800" y="942840"/>
            <a:ext cx="1101600" cy="795600"/>
          </a:xfrm>
          <a:prstGeom prst="roundRect">
            <a:avLst>
              <a:gd name="adj" fmla="val 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rot="18900000">
            <a:off x="4913280" y="3336480"/>
            <a:ext cx="598680" cy="573120"/>
          </a:xfrm>
          <a:prstGeom prst="roundRect">
            <a:avLst>
              <a:gd name="adj" fmla="val 27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74920" y="1025640"/>
            <a:ext cx="9302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Enter 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- Suppl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- Interal 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- Ite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91040" y="942840"/>
            <a:ext cx="10918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Approve Or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5400" y="2270160"/>
            <a:ext cx="851544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14480" y="5527800"/>
            <a:ext cx="851544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1360" y="5737320"/>
            <a:ext cx="7192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ccoun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1360" y="671400"/>
            <a:ext cx="7192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urchas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3160" y="2567160"/>
            <a:ext cx="7189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Receiv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8160" y="3438360"/>
            <a:ext cx="9302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54600" y="3218040"/>
            <a:ext cx="7491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Complete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41" idx="2"/>
            <a:endCxn id="40" idx="0"/>
          </p:cNvCxnSpPr>
          <p:nvPr/>
        </p:nvCxnSpPr>
        <p:spPr>
          <a:xfrm rot="5400000">
            <a:off x="2991600" y="2478960"/>
            <a:ext cx="1487880" cy="6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39" idx="3"/>
            <a:endCxn id="41" idx="1"/>
          </p:cNvCxnSpPr>
          <p:nvPr/>
        </p:nvCxnSpPr>
        <p:spPr>
          <a:xfrm>
            <a:off x="2490840" y="1337400"/>
            <a:ext cx="697320" cy="3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0" idx="3"/>
            <a:endCxn id="51" idx="1"/>
          </p:cNvCxnSpPr>
          <p:nvPr/>
        </p:nvCxnSpPr>
        <p:spPr>
          <a:xfrm flipV="1">
            <a:off x="4282920" y="3438720"/>
            <a:ext cx="572040" cy="185040"/>
          </a:xfrm>
          <a:prstGeom prst="bentConnector3">
            <a:avLst>
              <a:gd name="adj1" fmla="val 504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1" idx="3"/>
            <a:endCxn id="56" idx="1"/>
          </p:cNvCxnSpPr>
          <p:nvPr/>
        </p:nvCxnSpPr>
        <p:spPr>
          <a:xfrm>
            <a:off x="5603760" y="3438720"/>
            <a:ext cx="657720" cy="19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254240" y="115920"/>
            <a:ext cx="7443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andard Purchase Order to Pay Process 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72080" y="5921280"/>
            <a:ext cx="1101600" cy="795600"/>
          </a:xfrm>
          <a:prstGeom prst="roundRect">
            <a:avLst>
              <a:gd name="adj" fmla="val 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11680" y="6114960"/>
            <a:ext cx="9302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vo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35720" y="5921280"/>
            <a:ext cx="1101600" cy="795600"/>
          </a:xfrm>
          <a:prstGeom prst="roundRect">
            <a:avLst>
              <a:gd name="adj" fmla="val 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532560" y="6134040"/>
            <a:ext cx="9302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vo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236080" y="5921280"/>
            <a:ext cx="1101600" cy="795600"/>
          </a:xfrm>
          <a:prstGeom prst="roundRect">
            <a:avLst>
              <a:gd name="adj" fmla="val 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32920" y="6134040"/>
            <a:ext cx="9302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Review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GL Ent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58" idx="3"/>
            <a:endCxn id="60" idx="1"/>
          </p:cNvCxnSpPr>
          <p:nvPr/>
        </p:nvCxnSpPr>
        <p:spPr>
          <a:xfrm>
            <a:off x="5773680" y="6319080"/>
            <a:ext cx="6624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0" idx="3"/>
            <a:endCxn id="62" idx="1"/>
          </p:cNvCxnSpPr>
          <p:nvPr/>
        </p:nvCxnSpPr>
        <p:spPr>
          <a:xfrm>
            <a:off x="7537320" y="6319080"/>
            <a:ext cx="69912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1781280" y="679320"/>
            <a:ext cx="230040" cy="220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78120" y="728640"/>
            <a:ext cx="3063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9640" y="3510000"/>
            <a:ext cx="230400" cy="220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75040" y="3559320"/>
            <a:ext cx="3063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21240" y="669960"/>
            <a:ext cx="230040" cy="220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16280" y="719280"/>
            <a:ext cx="3063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21240" y="669960"/>
            <a:ext cx="230040" cy="220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16280" y="719280"/>
            <a:ext cx="3063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105760" y="2968560"/>
            <a:ext cx="230040" cy="220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174160" y="3027240"/>
            <a:ext cx="3063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3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68800" y="6764400"/>
            <a:ext cx="230400" cy="220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64200" y="6811920"/>
            <a:ext cx="3063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68800" y="6764400"/>
            <a:ext cx="230400" cy="220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99400" y="6773760"/>
            <a:ext cx="230040" cy="220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994440" y="6821640"/>
            <a:ext cx="3063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699400" y="6799320"/>
            <a:ext cx="230400" cy="204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767800" y="6831000"/>
            <a:ext cx="3063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23200" y="958680"/>
            <a:ext cx="1101960" cy="795600"/>
          </a:xfrm>
          <a:prstGeom prst="roundRect">
            <a:avLst>
              <a:gd name="adj" fmla="val 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420040" y="1171440"/>
            <a:ext cx="9302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Complet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Or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755200" y="698400"/>
            <a:ext cx="230040" cy="220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812080" y="757080"/>
            <a:ext cx="3063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05640" y="3467160"/>
            <a:ext cx="5727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9140000">
            <a:off x="6354360" y="3357360"/>
            <a:ext cx="657360" cy="620640"/>
          </a:xfrm>
          <a:prstGeom prst="roundRect">
            <a:avLst>
              <a:gd name="adj" fmla="val 25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61120" y="3236760"/>
            <a:ext cx="942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Remaining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48640" y="3224160"/>
            <a:ext cx="1101600" cy="795240"/>
          </a:xfrm>
          <a:prstGeom prst="roundRect">
            <a:avLst>
              <a:gd name="adj" fmla="val 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854840" y="3408480"/>
            <a:ext cx="930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Cancel Remaining Quantit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56" idx="3"/>
            <a:endCxn id="89" idx="1"/>
          </p:cNvCxnSpPr>
          <p:nvPr/>
        </p:nvCxnSpPr>
        <p:spPr>
          <a:xfrm>
            <a:off x="7203960" y="3457440"/>
            <a:ext cx="545040" cy="164520"/>
          </a:xfrm>
          <a:prstGeom prst="bentConnector3">
            <a:avLst>
              <a:gd name="adj1" fmla="val 495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" name=""/>
          <p:cNvSpPr/>
          <p:nvPr/>
        </p:nvSpPr>
        <p:spPr>
          <a:xfrm>
            <a:off x="7369200" y="3478320"/>
            <a:ext cx="5731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51" idx="2"/>
            <a:endCxn id="58" idx="0"/>
          </p:cNvCxnSpPr>
          <p:nvPr/>
        </p:nvCxnSpPr>
        <p:spPr>
          <a:xfrm rot="5400000">
            <a:off x="4094640" y="4787280"/>
            <a:ext cx="2262240" cy="648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5261040" y="4568760"/>
            <a:ext cx="5731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89" idx="2"/>
          </p:cNvCxnSpPr>
          <p:nvPr/>
        </p:nvCxnSpPr>
        <p:spPr>
          <a:xfrm rot="5400000">
            <a:off x="6283440" y="2961000"/>
            <a:ext cx="957600" cy="3074400"/>
          </a:xfrm>
          <a:prstGeom prst="bentConnector3">
            <a:avLst>
              <a:gd name="adj1" fmla="val 6209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56" idx="0"/>
          </p:cNvCxnSpPr>
          <p:nvPr/>
        </p:nvCxnSpPr>
        <p:spPr>
          <a:xfrm flipV="1" rot="16200000">
            <a:off x="4796640" y="1300680"/>
            <a:ext cx="874080" cy="2998080"/>
          </a:xfrm>
          <a:prstGeom prst="bentConnector3">
            <a:avLst>
              <a:gd name="adj1" fmla="val 6295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6759720" y="2774880"/>
            <a:ext cx="5731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51" idx="0"/>
            <a:endCxn id="83" idx="1"/>
          </p:cNvCxnSpPr>
          <p:nvPr/>
        </p:nvCxnSpPr>
        <p:spPr>
          <a:xfrm flipH="1" flipV="1" rot="5400000">
            <a:off x="5844960" y="740160"/>
            <a:ext cx="1861920" cy="3094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5270400" y="2646360"/>
            <a:ext cx="5731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826040" y="7310520"/>
            <a:ext cx="224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6 Open Source Strategies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1535400" cy="455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 Chen</cp:lastModifiedBy>
  <dcterms:modified xsi:type="dcterms:W3CDTF">2006-05-02T20:36:03Z</dcterms:modified>
  <cp:revision>2</cp:revision>
  <dc:subject/>
  <dc:title>PowerPoint Presentation</dc:title>
</cp:coreProperties>
</file>