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909720" y="460440"/>
            <a:ext cx="8688240" cy="6762600"/>
          </a:xfrm>
          <a:prstGeom prst="roundRect">
            <a:avLst>
              <a:gd name="adj" fmla="val 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389240" y="939960"/>
            <a:ext cx="1101600" cy="795240"/>
          </a:xfrm>
          <a:prstGeom prst="roundRect">
            <a:avLst>
              <a:gd name="adj" fmla="val 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200400" y="939960"/>
            <a:ext cx="1101600" cy="795240"/>
          </a:xfrm>
          <a:prstGeom prst="roundRect">
            <a:avLst>
              <a:gd name="adj" fmla="val 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775480" y="2616120"/>
            <a:ext cx="1101600" cy="795240"/>
          </a:xfrm>
          <a:prstGeom prst="roundRect">
            <a:avLst>
              <a:gd name="adj" fmla="val 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66960" y="4081320"/>
            <a:ext cx="1101600" cy="795600"/>
          </a:xfrm>
          <a:prstGeom prst="roundRect">
            <a:avLst>
              <a:gd name="adj" fmla="val 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88200" y="2616120"/>
            <a:ext cx="1101600" cy="795240"/>
          </a:xfrm>
          <a:prstGeom prst="roundRect">
            <a:avLst>
              <a:gd name="adj" fmla="val 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0440" y="2616120"/>
            <a:ext cx="1101600" cy="795240"/>
          </a:xfrm>
          <a:prstGeom prst="roundRect">
            <a:avLst>
              <a:gd name="adj" fmla="val 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19840" y="942840"/>
            <a:ext cx="1101600" cy="795600"/>
          </a:xfrm>
          <a:prstGeom prst="roundRect">
            <a:avLst>
              <a:gd name="adj" fmla="val 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8900000">
            <a:off x="3063960" y="2800080"/>
            <a:ext cx="460440" cy="441360"/>
          </a:xfrm>
          <a:prstGeom prst="roundRect">
            <a:avLst>
              <a:gd name="adj" fmla="val 3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960000">
            <a:off x="4422240" y="2773080"/>
            <a:ext cx="506520" cy="484200"/>
          </a:xfrm>
          <a:prstGeom prst="roundRect">
            <a:avLst>
              <a:gd name="adj" fmla="val 3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4920" y="938160"/>
            <a:ext cx="93024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erify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Pro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Pri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Additional Par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74920" y="1025640"/>
            <a:ext cx="9302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nter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Custo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I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Sales Chan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6960" y="1020600"/>
            <a:ext cx="9302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ate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Verify T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System Generates Order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5400" y="2270160"/>
            <a:ext cx="851544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14480" y="5527800"/>
            <a:ext cx="851544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1360" y="5737320"/>
            <a:ext cx="7192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1360" y="671400"/>
            <a:ext cx="7192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der En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3160" y="2567160"/>
            <a:ext cx="7189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ip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57280" y="2827440"/>
            <a:ext cx="9302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hip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36960" y="2933640"/>
            <a:ext cx="5554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rti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29000" y="2933640"/>
            <a:ext cx="7574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ackorder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55880" y="4294080"/>
            <a:ext cx="9302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uick Ship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45" idx="2"/>
            <a:endCxn id="44" idx="0"/>
          </p:cNvCxnSpPr>
          <p:nvPr/>
        </p:nvCxnSpPr>
        <p:spPr>
          <a:xfrm rot="5400000">
            <a:off x="3301920" y="347760"/>
            <a:ext cx="878040" cy="3659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39" idx="3"/>
            <a:endCxn id="40" idx="1"/>
          </p:cNvCxnSpPr>
          <p:nvPr/>
        </p:nvCxnSpPr>
        <p:spPr>
          <a:xfrm>
            <a:off x="2490840" y="1337400"/>
            <a:ext cx="7099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0" idx="3"/>
            <a:endCxn id="45" idx="1"/>
          </p:cNvCxnSpPr>
          <p:nvPr/>
        </p:nvCxnSpPr>
        <p:spPr>
          <a:xfrm>
            <a:off x="4302000" y="1337400"/>
            <a:ext cx="718200" cy="3600"/>
          </a:xfrm>
          <a:prstGeom prst="bentConnector3">
            <a:avLst>
              <a:gd name="adj1" fmla="val 500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4" idx="3"/>
            <a:endCxn id="57" idx="1"/>
          </p:cNvCxnSpPr>
          <p:nvPr/>
        </p:nvCxnSpPr>
        <p:spPr>
          <a:xfrm flipV="1">
            <a:off x="2462040" y="3006000"/>
            <a:ext cx="575280" cy="7920"/>
          </a:xfrm>
          <a:prstGeom prst="bentConnector3">
            <a:avLst>
              <a:gd name="adj1" fmla="val 504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8" idx="3"/>
            <a:endCxn id="41" idx="1"/>
          </p:cNvCxnSpPr>
          <p:nvPr/>
        </p:nvCxnSpPr>
        <p:spPr>
          <a:xfrm>
            <a:off x="5086440" y="3006000"/>
            <a:ext cx="689400" cy="7920"/>
          </a:xfrm>
          <a:prstGeom prst="bentConnector3">
            <a:avLst>
              <a:gd name="adj1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7" idx="3"/>
            <a:endCxn id="58" idx="1"/>
          </p:cNvCxnSpPr>
          <p:nvPr/>
        </p:nvCxnSpPr>
        <p:spPr>
          <a:xfrm>
            <a:off x="3592440" y="3006000"/>
            <a:ext cx="7369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3286080" y="3352680"/>
            <a:ext cx="1800" cy="72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67160" y="2892600"/>
            <a:ext cx="220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92600" y="2892600"/>
            <a:ext cx="220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54240" y="115920"/>
            <a:ext cx="7443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ndard Sales Order to Cash Process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694400" y="2365200"/>
            <a:ext cx="144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914480" y="2355840"/>
            <a:ext cx="2781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30760" y="2422440"/>
            <a:ext cx="220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2640" y="3552840"/>
            <a:ext cx="220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2320" y="2828880"/>
            <a:ext cx="9302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hi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48680" y="2627280"/>
            <a:ext cx="11095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firm Shi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Issue I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Create Pack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Route Seg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66960" y="5969160"/>
            <a:ext cx="1101600" cy="795240"/>
          </a:xfrm>
          <a:prstGeom prst="roundRect">
            <a:avLst>
              <a:gd name="adj" fmla="val 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06560" y="6161040"/>
            <a:ext cx="9302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voice Gener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42" idx="2"/>
            <a:endCxn id="76" idx="0"/>
          </p:cNvCxnSpPr>
          <p:nvPr/>
        </p:nvCxnSpPr>
        <p:spPr>
          <a:xfrm rot="16200000">
            <a:off x="2771640" y="5423040"/>
            <a:ext cx="10926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41" idx="3"/>
            <a:endCxn id="43" idx="1"/>
          </p:cNvCxnSpPr>
          <p:nvPr/>
        </p:nvCxnSpPr>
        <p:spPr>
          <a:xfrm>
            <a:off x="6877080" y="3013560"/>
            <a:ext cx="4114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5" idx="2"/>
            <a:endCxn id="76" idx="0"/>
          </p:cNvCxnSpPr>
          <p:nvPr/>
        </p:nvCxnSpPr>
        <p:spPr>
          <a:xfrm rot="5400000">
            <a:off x="4228560" y="2294280"/>
            <a:ext cx="2764440" cy="4586040"/>
          </a:xfrm>
          <a:prstGeom prst="bentConnector3">
            <a:avLst>
              <a:gd name="adj1" fmla="val 4990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1" name=""/>
          <p:cNvSpPr/>
          <p:nvPr/>
        </p:nvSpPr>
        <p:spPr>
          <a:xfrm>
            <a:off x="4530600" y="5969160"/>
            <a:ext cx="1101960" cy="795240"/>
          </a:xfrm>
          <a:prstGeom prst="roundRect">
            <a:avLst>
              <a:gd name="adj" fmla="val 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27440" y="6180120"/>
            <a:ext cx="9302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ces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30960" y="5967360"/>
            <a:ext cx="1101600" cy="795240"/>
          </a:xfrm>
          <a:prstGeom prst="roundRect">
            <a:avLst>
              <a:gd name="adj" fmla="val 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27800" y="6180120"/>
            <a:ext cx="9302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view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L En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76" idx="3"/>
            <a:endCxn id="81" idx="1"/>
          </p:cNvCxnSpPr>
          <p:nvPr/>
        </p:nvCxnSpPr>
        <p:spPr>
          <a:xfrm>
            <a:off x="3868560" y="6366600"/>
            <a:ext cx="6624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1" idx="3"/>
            <a:endCxn id="83" idx="1"/>
          </p:cNvCxnSpPr>
          <p:nvPr/>
        </p:nvCxnSpPr>
        <p:spPr>
          <a:xfrm flipV="1">
            <a:off x="5632560" y="6364800"/>
            <a:ext cx="6987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1781280" y="679320"/>
            <a:ext cx="23004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78120" y="728640"/>
            <a:ext cx="3063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92240" y="2825640"/>
            <a:ext cx="23004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87280" y="2873520"/>
            <a:ext cx="3067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92240" y="2825640"/>
            <a:ext cx="23004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87280" y="2873520"/>
            <a:ext cx="3067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42120" y="679320"/>
            <a:ext cx="23004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37160" y="728640"/>
            <a:ext cx="3063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21240" y="669960"/>
            <a:ext cx="23004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16280" y="719280"/>
            <a:ext cx="3063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21240" y="669960"/>
            <a:ext cx="23004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16280" y="719280"/>
            <a:ext cx="3063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08560" y="2355840"/>
            <a:ext cx="23040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03960" y="2405160"/>
            <a:ext cx="3063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11920" y="2355840"/>
            <a:ext cx="23040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08760" y="2405160"/>
            <a:ext cx="3067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92280" y="4300560"/>
            <a:ext cx="23040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87680" y="4349880"/>
            <a:ext cx="3063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64040" y="6810480"/>
            <a:ext cx="23004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59080" y="6858000"/>
            <a:ext cx="3063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64040" y="6810480"/>
            <a:ext cx="23004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59080" y="6858000"/>
            <a:ext cx="3063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94280" y="6819840"/>
            <a:ext cx="23004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89680" y="6867360"/>
            <a:ext cx="3063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96080" y="6845400"/>
            <a:ext cx="230040" cy="204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62680" y="6877080"/>
            <a:ext cx="3063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23200" y="958680"/>
            <a:ext cx="1101960" cy="795600"/>
          </a:xfrm>
          <a:prstGeom prst="roundRect">
            <a:avLst>
              <a:gd name="adj" fmla="val 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420040" y="1171440"/>
            <a:ext cx="9302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Comple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755200" y="698400"/>
            <a:ext cx="23004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12080" y="757080"/>
            <a:ext cx="3063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83" idx="3"/>
            <a:endCxn id="113" idx="2"/>
          </p:cNvCxnSpPr>
          <p:nvPr/>
        </p:nvCxnSpPr>
        <p:spPr>
          <a:xfrm flipV="1">
            <a:off x="7432560" y="1754280"/>
            <a:ext cx="1441800" cy="4610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535400" cy="455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826040" y="7315200"/>
            <a:ext cx="224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6 Open Source Strategie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 Chen</cp:lastModifiedBy>
  <dcterms:modified xsi:type="dcterms:W3CDTF">2006-05-02T20:36:15Z</dcterms:modified>
  <cp:revision>4</cp:revision>
  <dc:subject/>
  <dc:title>PowerPoint Presentation</dc:title>
</cp:coreProperties>
</file>