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9720" y="460440"/>
            <a:ext cx="8688240" cy="6762600"/>
          </a:xfrm>
          <a:prstGeom prst="roundRect">
            <a:avLst>
              <a:gd name="adj" fmla="val 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998720" y="92088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998720" y="318924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8900000">
            <a:off x="4025880" y="3300120"/>
            <a:ext cx="598680" cy="573120"/>
          </a:xfrm>
          <a:prstGeom prst="roundRect">
            <a:avLst>
              <a:gd name="adj" fmla="val 2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5840" y="1100160"/>
            <a:ext cx="930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Enter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5400" y="2270160"/>
            <a:ext cx="851544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4480" y="5527800"/>
            <a:ext cx="851544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5737320"/>
            <a:ext cx="71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360" y="671400"/>
            <a:ext cx="719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3160" y="2567160"/>
            <a:ext cx="71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93760" y="3402000"/>
            <a:ext cx="930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0" y="3181320"/>
            <a:ext cx="749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2"/>
            <a:endCxn id="40" idx="0"/>
          </p:cNvCxnSpPr>
          <p:nvPr/>
        </p:nvCxnSpPr>
        <p:spPr>
          <a:xfrm rot="5400000">
            <a:off x="1726200" y="2364480"/>
            <a:ext cx="1648080" cy="1800"/>
          </a:xfrm>
          <a:prstGeom prst="bentConnector3">
            <a:avLst>
              <a:gd name="adj1" fmla="val 498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0" idx="3"/>
            <a:endCxn id="49" idx="1"/>
          </p:cNvCxnSpPr>
          <p:nvPr/>
        </p:nvCxnSpPr>
        <p:spPr>
          <a:xfrm flipV="1">
            <a:off x="3100320" y="3474000"/>
            <a:ext cx="867240" cy="113040"/>
          </a:xfrm>
          <a:prstGeom prst="bentConnector3">
            <a:avLst>
              <a:gd name="adj1" fmla="val 502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9" idx="3"/>
            <a:endCxn id="53" idx="1"/>
          </p:cNvCxnSpPr>
          <p:nvPr/>
        </p:nvCxnSpPr>
        <p:spPr>
          <a:xfrm flipV="1">
            <a:off x="4716360" y="3421080"/>
            <a:ext cx="657720" cy="53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254240" y="115920"/>
            <a:ext cx="7443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ndard Return to Credit Process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98720" y="449748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8320" y="469116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spect Inven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5978520"/>
            <a:ext cx="110196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01680" y="6189840"/>
            <a:ext cx="930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5200" y="597708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03840" y="6189840"/>
            <a:ext cx="930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view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 E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7" idx="3"/>
            <a:endCxn id="59" idx="1"/>
          </p:cNvCxnSpPr>
          <p:nvPr/>
        </p:nvCxnSpPr>
        <p:spPr>
          <a:xfrm flipV="1">
            <a:off x="3106800" y="6374520"/>
            <a:ext cx="698760" cy="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2392200" y="66204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7600" y="70956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5600" y="347328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440" y="352260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3280" y="4765680"/>
            <a:ext cx="23004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0120" y="481500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4720" y="476568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68520" y="6829560"/>
            <a:ext cx="2304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63920" y="687708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0320" y="6854760"/>
            <a:ext cx="230400" cy="20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36920" y="6886440"/>
            <a:ext cx="3063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18240" y="3430440"/>
            <a:ext cx="572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140000">
            <a:off x="5466960" y="3320640"/>
            <a:ext cx="657360" cy="620640"/>
          </a:xfrm>
          <a:prstGeom prst="roundRect">
            <a:avLst>
              <a:gd name="adj" fmla="val 2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3720" y="3200400"/>
            <a:ext cx="942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61240" y="3187800"/>
            <a:ext cx="1101600" cy="795240"/>
          </a:xfrm>
          <a:prstGeom prst="roundRect">
            <a:avLst>
              <a:gd name="adj" fmla="val 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67440" y="3371760"/>
            <a:ext cx="930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56520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ancel Remaining Quant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53" idx="3"/>
            <a:endCxn id="75" idx="1"/>
          </p:cNvCxnSpPr>
          <p:nvPr/>
        </p:nvCxnSpPr>
        <p:spPr>
          <a:xfrm>
            <a:off x="6316560" y="3421080"/>
            <a:ext cx="545040" cy="164520"/>
          </a:xfrm>
          <a:prstGeom prst="bentConnector3">
            <a:avLst>
              <a:gd name="adj1" fmla="val 495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81800" y="3440160"/>
            <a:ext cx="573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40" idx="2"/>
            <a:endCxn id="55" idx="0"/>
          </p:cNvCxnSpPr>
          <p:nvPr/>
        </p:nvCxnSpPr>
        <p:spPr>
          <a:xfrm rot="16200000">
            <a:off x="2293200" y="4240800"/>
            <a:ext cx="513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467240" y="4024440"/>
            <a:ext cx="573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3" idx="0"/>
          </p:cNvCxnSpPr>
          <p:nvPr/>
        </p:nvCxnSpPr>
        <p:spPr>
          <a:xfrm flipV="1" rot="16200000">
            <a:off x="3826080" y="1181160"/>
            <a:ext cx="742320" cy="3296520"/>
          </a:xfrm>
          <a:prstGeom prst="bentConnector3">
            <a:avLst>
              <a:gd name="adj1" fmla="val 65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872320" y="2738520"/>
            <a:ext cx="572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5" idx="2"/>
            <a:endCxn id="57" idx="0"/>
          </p:cNvCxnSpPr>
          <p:nvPr/>
        </p:nvCxnSpPr>
        <p:spPr>
          <a:xfrm flipH="1" rot="16200000">
            <a:off x="2209680" y="5632200"/>
            <a:ext cx="686160" cy="6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49" idx="2"/>
            <a:endCxn id="55" idx="3"/>
          </p:cNvCxnSpPr>
          <p:nvPr/>
        </p:nvCxnSpPr>
        <p:spPr>
          <a:xfrm rot="5400000">
            <a:off x="3156840" y="3710160"/>
            <a:ext cx="1128240" cy="124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535400" cy="45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26040" y="7310520"/>
            <a:ext cx="224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6 Open Source Strategi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 Chen</cp:lastModifiedBy>
  <dcterms:modified xsi:type="dcterms:W3CDTF">2006-05-02T20:49:57Z</dcterms:modified>
  <cp:revision>2</cp:revision>
  <dc:subject/>
  <dc:title>PowerPoint Presentation</dc:title>
</cp:coreProperties>
</file>